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5D6-C04A-4EE1-B1E8-1281A765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743-99B2-40E7-9A0C-A1C3D569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361-B632-43B5-8976-30D629B1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E9B-BE51-4A2A-BF83-12C91134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7640-80E8-41A9-AFEA-30EE071F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92A9-0B29-4BC6-9C4A-3225BF1D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D506-F8A3-4F1D-B08D-5C9F9AC3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60E9-984F-4D0C-8687-26F14326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34FE-5032-453F-892D-43CA7C74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1806-7244-4625-AEBB-A40362CC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87E0-CFF4-42AB-84CB-CEF4DE59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95A-D613-4726-965D-252768BB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3929-FF33-438F-A03F-65B85A32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E311-0026-4FC3-8E29-E6EDA73F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3F91-871C-4CC3-8650-2AE469F1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D9FC-0F97-4C6C-B23C-67BD482F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61EE-9683-4A93-AD55-258E3A11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E79-CA13-4128-BE79-2F3AC326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9F7-C29B-4F23-9BE9-16BAE431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B91-C65E-4CDC-9036-A06F5FB9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004-2DB4-4BF8-A20A-E19189D0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E06-A5DF-4BC8-BB6F-2AE037B5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7B1-7FBE-43A4-846C-3423B4E8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191-A0AD-48B5-8F68-5545BB30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8351-0617-4058-BA29-654C58C7B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78AB-D81D-462C-8347-4F22AF6D8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ockfamily.net/skeleton/HINGE.MOV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shockfamily.net/skeleton/BALLSOCK.MOV" TargetMode="External"/><Relationship Id="rId5" Type="http://schemas.openxmlformats.org/officeDocument/2006/relationships/hyperlink" Target="http://www.shockfamily.net/skeleton/BALLSOCK.MOV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ockfamily.net/skeleton/HINGE.MO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Skeletal System Continued…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veloping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’s bones are mainly made of cartilage and as we grow up this is replaced by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iosteum lays down new bone cells while at the same time cells inside the bone vestry older bone cells meaning the bone becomes longer and w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Synovial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HING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676520"/>
            <a:ext cx="1676520" cy="1517400"/>
          </a:xfrm>
          <a:prstGeom prst="rect">
            <a:avLst/>
          </a:prstGeom>
          <a:ln w="0">
            <a:noFill/>
          </a:ln>
        </p:spPr>
      </p:pic>
      <p:pic>
        <p:nvPicPr>
          <p:cNvPr id="150" name="SADDLE" descr=""/>
          <p:cNvPicPr/>
          <p:nvPr/>
        </p:nvPicPr>
        <p:blipFill>
          <a:blip r:embed="rId3"/>
          <a:stretch/>
        </p:blipFill>
        <p:spPr>
          <a:xfrm>
            <a:off x="3581280" y="1752480"/>
            <a:ext cx="1981440" cy="143208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990720" y="7238880"/>
            <a:ext cx="9153360" cy="3500280"/>
            <a:chOff x="990720" y="7238880"/>
            <a:chExt cx="9153360" cy="3500280"/>
          </a:xfrm>
        </p:grpSpPr>
        <p:grpSp>
          <p:nvGrpSpPr>
            <p:cNvPr id="152" name=""/>
            <p:cNvGrpSpPr/>
            <p:nvPr/>
          </p:nvGrpSpPr>
          <p:grpSpPr>
            <a:xfrm>
              <a:off x="995400" y="7243560"/>
              <a:ext cx="9144000" cy="3490920"/>
              <a:chOff x="995400" y="7243560"/>
              <a:chExt cx="9144000" cy="3490920"/>
            </a:xfrm>
          </p:grpSpPr>
          <p:sp>
            <p:nvSpPr>
              <p:cNvPr id="153" name=""/>
              <p:cNvSpPr/>
              <p:nvPr/>
            </p:nvSpPr>
            <p:spPr>
              <a:xfrm>
                <a:off x="995400" y="7243560"/>
                <a:ext cx="9144000" cy="34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 u="sng">
                    <a:solidFill>
                      <a:srgbClr val="99ccff"/>
                    </a:solidFill>
                    <a:uFillTx/>
                    <a:latin typeface="Times New Roman"/>
                    <a:hlinkClick r:id="rId4"/>
                  </a:rPr>
                  <a:t>  </a:t>
                </a:r>
                <a:r>
                  <a:rPr b="0" lang="en-AU" sz="22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A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95400" y="7243560"/>
                <a:ext cx="9144000" cy="3490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990720" y="7238880"/>
              <a:ext cx="9153360" cy="3500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BALLSOCK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1676520"/>
            <a:ext cx="1801800" cy="1509480"/>
          </a:xfrm>
          <a:prstGeom prst="rect">
            <a:avLst/>
          </a:prstGeom>
          <a:ln w="0">
            <a:noFill/>
          </a:ln>
        </p:spPr>
      </p:pic>
      <p:pic>
        <p:nvPicPr>
          <p:cNvPr id="157" name="GLIDING" descr=""/>
          <p:cNvPicPr/>
          <p:nvPr/>
        </p:nvPicPr>
        <p:blipFill>
          <a:blip r:embed="rId7"/>
          <a:stretch/>
        </p:blipFill>
        <p:spPr>
          <a:xfrm>
            <a:off x="914400" y="419112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158" name="Image601" descr=""/>
          <p:cNvPicPr/>
          <p:nvPr/>
        </p:nvPicPr>
        <p:blipFill>
          <a:blip r:embed="rId8"/>
          <a:srcRect l="32144" t="14319" r="0" b="14319"/>
          <a:stretch/>
        </p:blipFill>
        <p:spPr>
          <a:xfrm>
            <a:off x="3733920" y="3733920"/>
            <a:ext cx="1790640" cy="2111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66680" y="3276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ge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3276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ddle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3352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l in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5638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iding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5562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vot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image010" descr=""/>
          <p:cNvPicPr/>
          <p:nvPr/>
        </p:nvPicPr>
        <p:blipFill>
          <a:blip r:embed="rId9"/>
          <a:srcRect l="0" t="0" r="0" b="21848"/>
          <a:stretch/>
        </p:blipFill>
        <p:spPr>
          <a:xfrm>
            <a:off x="6095880" y="4114800"/>
            <a:ext cx="2286000" cy="1287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324480" y="548640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oi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llips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 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268280"/>
            <a:ext cx="7772400" cy="26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ose 5 joints within your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a table indicating which sort of joint it is, the bones in it, and draw a picture representing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73240" y="4114800"/>
          <a:ext cx="7772400" cy="20192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b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lna and Humer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ovial - Hi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797360"/>
            <a:ext cx="13892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Movement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can move in many different ways, each bones ability to move depends on the muscle attached and the type of j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ovement has an opposite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Movements (p270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341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b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traigh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ody part mov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w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line of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ody part mov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wa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midline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ody part moves around its ax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– move out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– Move in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More Movement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md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ody part moved in a con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al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n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Palm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otation of the sole out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otation of the sole in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ir has been given an exercise or sporting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erson imitates the movement while the second person observes, and lists the movements occur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. Bicep Curl: flexion of the elb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table in your book and add the other pairs movements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vement – Muscles and Bones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movement to occur there must be a muscle between two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 where the muscle attaches to the moving bon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 where the muscle attaches to the non-moving bone 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vement – Muscles and Bones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s work as a te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scle causing the action is known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scle that does the opposite to the agonist to allow the agonist to work is calle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. Bicep C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estion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questions 1 – 4 on p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ercise and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ak Bone 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mount of minerals (phosphorus and calcium) and compact bone stored to give the bone maximum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s during childhood such as high intensity and weight bearing help in achieving th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happens when we don’t achiev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the Skeleton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and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s and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 1 (5mi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your text books divide your skeleton into the 6 different parts (259-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bones in each part and the function of that specific part of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 2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points Qu 1-4  p 2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Joints and Movement 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p 268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s are where two or more bones meet. They are held together by ligaments (thick cords stringy tissue) and determine how moveable the bon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Jo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brous (immove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gh fibres join these bone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rtilaginous (partially move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ilage joins these bone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ilage is not as flexible as ligaments therefore movement is restri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novial (freely move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freely and are the most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ed by synovial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types of synovial j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brous Joint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  Cartilaginous Join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fibrous-joint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3391200" cy="2771640"/>
          </a:xfrm>
          <a:prstGeom prst="rect">
            <a:avLst/>
          </a:prstGeom>
          <a:ln w="0">
            <a:noFill/>
          </a:ln>
        </p:spPr>
      </p:pic>
      <p:pic>
        <p:nvPicPr>
          <p:cNvPr id="144" name="cartilaginous-joint" descr=""/>
          <p:cNvPicPr/>
          <p:nvPr/>
        </p:nvPicPr>
        <p:blipFill>
          <a:blip r:embed="rId2"/>
          <a:stretch/>
        </p:blipFill>
        <p:spPr>
          <a:xfrm>
            <a:off x="5943600" y="1447920"/>
            <a:ext cx="2228760" cy="1942920"/>
          </a:xfrm>
          <a:prstGeom prst="rect">
            <a:avLst/>
          </a:prstGeom>
          <a:ln w="0">
            <a:noFill/>
          </a:ln>
        </p:spPr>
      </p:pic>
      <p:pic>
        <p:nvPicPr>
          <p:cNvPr id="145" name="image002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2536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Typical Synovial Joi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joints" descr=""/>
          <p:cNvPicPr/>
          <p:nvPr/>
        </p:nvPicPr>
        <p:blipFill>
          <a:blip r:embed="rId1"/>
          <a:stretch/>
        </p:blipFill>
        <p:spPr>
          <a:xfrm>
            <a:off x="2874960" y="1981080"/>
            <a:ext cx="436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5:07:13Z</dcterms:created>
  <dc:creator>Systems Administrator</dc:creator>
  <dc:description/>
  <dc:language>en-US</dc:language>
  <cp:lastModifiedBy>WBottrall</cp:lastModifiedBy>
  <dcterms:modified xsi:type="dcterms:W3CDTF">2006-06-14T22:31:25Z</dcterms:modified>
  <cp:revision>14</cp:revision>
  <dc:subject/>
  <dc:title>Joints and Movement</dc:title>
</cp:coreProperties>
</file>